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577-5792-4B6E-A8E5-4CCBDE48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0CF-5FB1-4FBA-AF2F-307EAEC5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B48-E73A-4B27-A21E-C85A1EE7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7B4-5521-4DA8-BD1D-AC75713F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3E6-7716-4CE8-AB62-2E5ABAA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237-5EB6-4FC3-897E-DFE65E2F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A85-CA46-43C8-AB63-55E6E4C7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EFF-620B-41CF-A8BF-3068DA06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C00-6D15-4331-B3BB-8C460C9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7B2-8991-44CA-810E-4185D11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C84-AAAA-4BF7-AD44-D7161E0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8BB-A6BE-47B9-AF40-6460580B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8718-9D58-4060-80EB-12DA924DD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0"/>
            <a:endCxn id="50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0" idx="3"/>
            <a:endCxn id="52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2" idx="2"/>
            <a:endCxn id="50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0"/>
            <a:endCxn id="56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8" idx="3"/>
            <a:endCxn id="60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8" idx="3"/>
            <a:endCxn id="61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3"/>
            <a:endCxn id="62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8" idx="3"/>
            <a:endCxn id="63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1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1" idx="3"/>
            <a:endCxn id="73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1" idx="0"/>
            <a:endCxn id="72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80" name=""/>
          <p:cNvCxnSpPr>
            <a:stCxn id="72" idx="3"/>
            <a:endCxn id="73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3" idx="3"/>
            <a:endCxn id="74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81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4" idx="3"/>
            <a:endCxn id="75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75" idx="3"/>
            <a:endCxn id="87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8-24T16:44:47Z</dcterms:modified>
  <cp:revision>13</cp:revision>
  <dc:subject/>
  <dc:title>EL63A-Taller de Proyecto en Control II</dc:title>
</cp:coreProperties>
</file>